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A7E-D1A9-4774-9E6D-0F811808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813-C730-414A-8CD5-5E137453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D0F-D30E-4FEA-9951-4C2DB3E9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A6D-BD75-49E2-A94C-2B71D4E6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0E3F-E4F4-40EC-87D5-DE3ED87A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B7C0-B21D-4EDA-8791-AAAC6271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D11-5811-4F00-864D-D658C3F0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E706-3536-4450-A3A7-FAA5BF59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8B57-5F19-4736-8BC6-4192136F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1FE7-C929-4C52-8DF5-B5B492EB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8410-B563-49C7-8BF3-EE1101B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435-CB94-4B74-BE0D-5FE7AAAB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4A18-ACE3-478A-9BA5-DDDC006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3484-9B98-44C0-93C3-6405185A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2033-06D1-4371-883B-8EE8122F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A26B-0793-4F20-A64F-BE39794A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C91D-94F6-4CE4-A2CC-4AC02DCC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48A-0496-415D-9FB7-57DF20BE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E8D-A7BC-4F48-A970-D734D0FC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528-B9F6-458B-BF2E-5E44079F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D06-0BD6-4080-A8D5-43EE362C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8C1-F404-4FEF-8305-3452E380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B08-C2D9-40FF-A19E-1EA85C7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5A5-4FF8-433A-BE6A-61A8AA33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49CD-75F8-4456-B159-756030897A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1BA7-C9BF-4043-99C1-5E1A16EDA2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ath Reference Shee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cavenger Hun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Spence-Di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215720"/>
            <a:ext cx="39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A bottle contains 0.375 liters of juic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following is another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ress 0.37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05840" y="2550960"/>
            <a:ext cx="109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00040" y="1161360"/>
            <a:ext cx="63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he top ten scores in a bowling tournament are listed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590920"/>
            <a:ext cx="472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8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       279        288        2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8            250        298        255       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886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stem and leaf plot to correctly represent these sc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833480" y="1371600"/>
          <a:ext cx="5477040" cy="800280"/>
        </p:xfrm>
        <a:graphic>
          <a:graphicData uri="http://schemas.openxmlformats.org/drawingml/2006/table">
            <a:tbl>
              <a:tblPr/>
              <a:tblGrid>
                <a:gridCol w="547704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. Vineet answered 20 out of 25 questions correctly on his last mathematics test. What percent is equivalent to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895480" y="3276720"/>
          <a:ext cx="208080" cy="214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" descr="20/25"/>
          <p:cNvPicPr/>
          <p:nvPr/>
        </p:nvPicPr>
        <p:blipFill>
          <a:blip r:embed="rId1"/>
          <a:stretch/>
        </p:blipFill>
        <p:spPr>
          <a:xfrm>
            <a:off x="6629400" y="1676520"/>
            <a:ext cx="142920" cy="285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2819520"/>
            <a:ext cx="4800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1852560"/>
          <a:ext cx="2324160" cy="2295720"/>
        </p:xfrm>
        <a:graphic>
          <a:graphicData uri="http://schemas.openxmlformats.org/drawingml/2006/table">
            <a:tbl>
              <a:tblPr/>
              <a:tblGrid>
                <a:gridCol w="2324160"/>
              </a:tblGrid>
              <a:tr h="22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276720" y="1828800"/>
          <a:ext cx="2133360" cy="180504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nim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ximum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igh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in ounc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e Hummingbi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itti’s Hog-nosed B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ygmy Mou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ygmy Shr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505320" y="4419720"/>
          <a:ext cx="1709640" cy="857160"/>
        </p:xfrm>
        <a:graphic>
          <a:graphicData uri="http://schemas.openxmlformats.org/drawingml/2006/table">
            <a:tbl>
              <a:tblPr/>
              <a:tblGrid>
                <a:gridCol w="216000"/>
                <a:gridCol w="285840"/>
                <a:gridCol w="1207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8, 0.07, 0.09, 0.0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7, 0.09, 0.28, 0.0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8, 0.056, 0.07, 0.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56, 0.07, 0.09, 0.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2057400" y="380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he table below shows the maximum weights of some of the smallest living animals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Weigh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ome Small Animal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3809880"/>
            <a:ext cx="4267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shows the numbers in the table in order from least to great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444680" y="1295280"/>
          <a:ext cx="6254640" cy="2971080"/>
        </p:xfrm>
        <a:graphic>
          <a:graphicData uri="http://schemas.openxmlformats.org/drawingml/2006/table">
            <a:tbl>
              <a:tblPr/>
              <a:tblGrid>
                <a:gridCol w="647640"/>
                <a:gridCol w="5391360"/>
                <a:gridCol w="216000"/>
              </a:tblGrid>
              <a:tr h="1116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 An automobile repair shop takes approximately 0.4 hour to change the oil in a car. What is the total number of minutes in 0.4 hou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828800" y="2362320"/>
          <a:ext cx="4343040" cy="1777680"/>
        </p:xfrm>
        <a:graphic>
          <a:graphicData uri="http://schemas.openxmlformats.org/drawingml/2006/table">
            <a:tbl>
              <a:tblPr/>
              <a:tblGrid>
                <a:gridCol w="759600"/>
                <a:gridCol w="1050120"/>
                <a:gridCol w="2533320"/>
              </a:tblGrid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951280" y="1371600"/>
          <a:ext cx="3241440" cy="941400"/>
        </p:xfrm>
        <a:graphic>
          <a:graphicData uri="http://schemas.openxmlformats.org/drawingml/2006/table">
            <a:tbl>
              <a:tblPr/>
              <a:tblGrid>
                <a:gridCol w="32414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.   If         = 4 and        = 5, what is the value of the expression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(              ) + 6(         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a triangle"/>
          <p:cNvPicPr/>
          <p:nvPr/>
        </p:nvPicPr>
        <p:blipFill>
          <a:blip r:embed="rId1"/>
          <a:stretch/>
        </p:blipFill>
        <p:spPr>
          <a:xfrm>
            <a:off x="3657600" y="1447920"/>
            <a:ext cx="133200" cy="123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 box"/>
          <p:cNvPicPr/>
          <p:nvPr/>
        </p:nvPicPr>
        <p:blipFill>
          <a:blip r:embed="rId2"/>
          <a:stretch/>
        </p:blipFill>
        <p:spPr>
          <a:xfrm>
            <a:off x="4724280" y="152388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 triangle"/>
          <p:cNvPicPr/>
          <p:nvPr/>
        </p:nvPicPr>
        <p:blipFill>
          <a:blip r:embed="rId3"/>
          <a:stretch/>
        </p:blipFill>
        <p:spPr>
          <a:xfrm>
            <a:off x="4114800" y="2133720"/>
            <a:ext cx="133200" cy="123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 box"/>
          <p:cNvPicPr/>
          <p:nvPr/>
        </p:nvPicPr>
        <p:blipFill>
          <a:blip r:embed="rId4"/>
          <a:stretch/>
        </p:blipFill>
        <p:spPr>
          <a:xfrm>
            <a:off x="5105520" y="2133720"/>
            <a:ext cx="95040" cy="95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38280" y="2895480"/>
            <a:ext cx="4876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858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15. The table below shows the low temperatures of four cities on one winter nig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Low Temperatures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Four Cities One Night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246400"/>
          <a:ext cx="2432160" cy="1508040"/>
        </p:xfrm>
        <a:graphic>
          <a:graphicData uri="http://schemas.openxmlformats.org/drawingml/2006/table">
            <a:tbl>
              <a:tblPr/>
              <a:tblGrid>
                <a:gridCol w="2432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581280" y="1981080"/>
          <a:ext cx="2241720" cy="1443240"/>
        </p:xfrm>
        <a:graphic>
          <a:graphicData uri="http://schemas.openxmlformats.org/drawingml/2006/table">
            <a:tbl>
              <a:tblPr/>
              <a:tblGrid>
                <a:gridCol w="995400"/>
                <a:gridCol w="1246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o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°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w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°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pring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−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°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orce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−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°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038480" y="4191120"/>
          <a:ext cx="1828800" cy="1092240"/>
        </p:xfrm>
        <a:graphic>
          <a:graphicData uri="http://schemas.openxmlformats.org/drawingml/2006/table">
            <a:tbl>
              <a:tblPr/>
              <a:tblGrid>
                <a:gridCol w="322560"/>
                <a:gridCol w="446040"/>
                <a:gridCol w="1060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o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w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pring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orce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590920" y="3809880"/>
            <a:ext cx="4190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ity had the lowest temperature that n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22680" y="2835000"/>
            <a:ext cx="549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 What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kes the equation below tr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 =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92240"/>
            <a:ext cx="8231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Sarah has the following items in her book ba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red 12-inch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green 12-inch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black 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blue 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urple 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will randomly select one 12-inch ruler and one p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e diagram below shows all of the possible combinations of one 12-inch ruler and one pen that Sarah could 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a tree diabram"/>
          <p:cNvPicPr/>
          <p:nvPr/>
        </p:nvPicPr>
        <p:blipFill>
          <a:blip r:embed="rId1"/>
          <a:stretch/>
        </p:blipFill>
        <p:spPr>
          <a:xfrm>
            <a:off x="3962520" y="2590920"/>
            <a:ext cx="1209600" cy="2152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97000" y="5104800"/>
            <a:ext cx="69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that Sarah will select a green 12-inch ruler and either a black or a purple 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638680"/>
            <a:ext cx="7467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1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graph"/>
          <p:cNvPicPr/>
          <p:nvPr/>
        </p:nvPicPr>
        <p:blipFill>
          <a:blip r:embed="rId1"/>
          <a:stretch/>
        </p:blipFill>
        <p:spPr>
          <a:xfrm>
            <a:off x="3200400" y="1143000"/>
            <a:ext cx="2543040" cy="25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483000" y="3962520"/>
          <a:ext cx="2168640" cy="2187360"/>
        </p:xfrm>
        <a:graphic>
          <a:graphicData uri="http://schemas.openxmlformats.org/drawingml/2006/table">
            <a:tbl>
              <a:tblPr/>
              <a:tblGrid>
                <a:gridCol w="216000"/>
                <a:gridCol w="286200"/>
                <a:gridCol w="1666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value of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creases by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value of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decreases by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value of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creases by         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value of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decreases by         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1/3 fraction"/>
          <p:cNvPicPr/>
          <p:nvPr/>
        </p:nvPicPr>
        <p:blipFill>
          <a:blip r:embed="rId2"/>
          <a:stretch/>
        </p:blipFill>
        <p:spPr>
          <a:xfrm>
            <a:off x="5334120" y="4191120"/>
            <a:ext cx="142920" cy="28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1/3 fraction"/>
          <p:cNvPicPr/>
          <p:nvPr/>
        </p:nvPicPr>
        <p:blipFill>
          <a:blip r:embed="rId3"/>
          <a:stretch/>
        </p:blipFill>
        <p:spPr>
          <a:xfrm>
            <a:off x="5334120" y="3330720"/>
            <a:ext cx="142920" cy="285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363760" y="45720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As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ases from 0 to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hange in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36600" y="990720"/>
          <a:ext cx="6670800" cy="1353960"/>
        </p:xfrm>
        <a:graphic>
          <a:graphicData uri="http://schemas.openxmlformats.org/drawingml/2006/table">
            <a:tbl>
              <a:tblPr/>
              <a:tblGrid>
                <a:gridCol w="6238800"/>
                <a:gridCol w="216000"/>
                <a:gridCol w="216000"/>
              </a:tblGrid>
              <a:tr h="871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  All of the sweaters in a store are on sale for 10% less than the regular price. What is the sale price of a sweater with a regular price of $38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54760" y="1066320"/>
            <a:ext cx="82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5. The list below shows the ages of the students in Mario’s computer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09680" y="2209680"/>
          <a:ext cx="4648320" cy="3193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,   13,   12,   14,   12,   14,   15,   13,   14,   16,   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80400" y="3688920"/>
            <a:ext cx="56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hat is the range of the ages of the students in the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364320"/>
            <a:ext cx="8286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6. Copy the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axis and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axis shown below onto the grid in your Student Answer Book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1920" y="2895480"/>
          <a:ext cx="6373800" cy="3176280"/>
        </p:xfrm>
        <a:graphic>
          <a:graphicData uri="http://schemas.openxmlformats.org/drawingml/2006/table">
            <a:tbl>
              <a:tblPr/>
              <a:tblGrid>
                <a:gridCol w="268200"/>
                <a:gridCol w="610560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lot and label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4, 6) and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Q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4, 2) on your gri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ine segme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Q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s one side of a rectangle. On your grid, draw rectangle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QR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with a length of 4 units and a width of 2 unit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abel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d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e the coordinates of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d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n your grid, draw the two diagonals of rectangle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QR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 What are the coordinates of the point where the two diagonals intersect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x and y grid"/>
          <p:cNvPicPr/>
          <p:nvPr/>
        </p:nvPicPr>
        <p:blipFill>
          <a:blip r:embed="rId1"/>
          <a:stretch/>
        </p:blipFill>
        <p:spPr>
          <a:xfrm>
            <a:off x="3657600" y="838080"/>
            <a:ext cx="142884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0" y="838080"/>
          <a:ext cx="4495320" cy="1336680"/>
        </p:xfrm>
        <a:graphic>
          <a:graphicData uri="http://schemas.openxmlformats.org/drawingml/2006/table">
            <a:tbl>
              <a:tblPr/>
              <a:tblGrid>
                <a:gridCol w="449532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.      Horseshoe Falls has an average water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low of 600,000 gallons per second.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is the average water flow of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rseshoe Falls in gallons per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inute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533760" y="3290760"/>
          <a:ext cx="2081160" cy="1949400"/>
        </p:xfrm>
        <a:graphic>
          <a:graphicData uri="http://schemas.openxmlformats.org/drawingml/2006/table">
            <a:tbl>
              <a:tblPr/>
              <a:tblGrid>
                <a:gridCol w="216000"/>
                <a:gridCol w="286200"/>
                <a:gridCol w="15789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,000 gallons per minu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,000 gallons per minu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600,000 gallons per minu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,000,000 gallons per minu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467160" y="914400"/>
          <a:ext cx="2476440" cy="4027320"/>
        </p:xfrm>
        <a:graphic>
          <a:graphicData uri="http://schemas.openxmlformats.org/drawingml/2006/table">
            <a:tbl>
              <a:tblPr/>
              <a:tblGrid>
                <a:gridCol w="225360"/>
                <a:gridCol w="1806480"/>
                <a:gridCol w="444600"/>
              </a:tblGrid>
              <a:tr h="2225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. Chris was looking for information o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pace exploration. She got approximately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4,800,000 results when she did a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rnet search. What is 54,800,000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in scientific not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692520" y="3352680"/>
          <a:ext cx="2326680" cy="1599840"/>
        </p:xfrm>
        <a:graphic>
          <a:graphicData uri="http://schemas.openxmlformats.org/drawingml/2006/table">
            <a:tbl>
              <a:tblPr/>
              <a:tblGrid>
                <a:gridCol w="426240"/>
                <a:gridCol w="588960"/>
                <a:gridCol w="131148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48 ×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48 ×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48 ×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48 ×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1:42:00Z</dcterms:created>
  <dc:creator>Barnstable Middle School</dc:creator>
  <dc:description/>
  <dc:language>en-US</dc:language>
  <cp:lastModifiedBy>Barnstable Middle School</cp:lastModifiedBy>
  <dcterms:modified xsi:type="dcterms:W3CDTF">2009-04-13T16:26:25Z</dcterms:modified>
  <cp:revision>7</cp:revision>
  <dc:subject/>
  <dc:title>Slide 1</dc:title>
</cp:coreProperties>
</file>